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  <p:custShowLst>
    <p:custShow name="fin" id="0">
      <p:sldLst>
        <p:sld r:id="rId14"/>
        <p:sld r:id="rId1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2F99-AD22-4CFD-9F17-C2986D91E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040" y="1142640"/>
            <a:ext cx="80312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914040" y="4127760"/>
            <a:ext cx="80312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44A9-C102-4D23-A22E-26A6DD50C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040" y="1142640"/>
            <a:ext cx="39189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29200" y="1142640"/>
            <a:ext cx="39189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914040" y="4127760"/>
            <a:ext cx="39189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29200" y="4127760"/>
            <a:ext cx="39189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3B37-6AFA-4757-B7F8-ED10F6287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1142640"/>
            <a:ext cx="2585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629520" y="1142640"/>
            <a:ext cx="2585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45000" y="1142640"/>
            <a:ext cx="2585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914040" y="4127760"/>
            <a:ext cx="2585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629520" y="4127760"/>
            <a:ext cx="2585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345000" y="4127760"/>
            <a:ext cx="2585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27F7-1F5E-44EC-81C7-563B4053A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C65F4-2904-480F-AC82-F88B60611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14040" y="1142640"/>
            <a:ext cx="80312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B8871-57CE-4FE0-B18A-BC293EC6D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1142640"/>
            <a:ext cx="80312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DD895-0B7E-4791-B113-A222B0D26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1142640"/>
            <a:ext cx="39189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29200" y="1142640"/>
            <a:ext cx="39189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07780-DED1-4545-A562-13EA4EAF9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CBF93-5BB8-4084-B761-0462BFF31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951B3-F52B-492F-AF24-B9F3B6FB7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142640"/>
            <a:ext cx="39189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29200" y="1142640"/>
            <a:ext cx="39189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14040" y="4127760"/>
            <a:ext cx="39189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A3D5B-6B1C-4B77-A1F1-6D2D8420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914040" y="1142640"/>
            <a:ext cx="80312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BA7A-A47D-499C-B6B8-87AB1A915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142640"/>
            <a:ext cx="39189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29200" y="1142640"/>
            <a:ext cx="39189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29200" y="4127760"/>
            <a:ext cx="39189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25D92-060C-4093-A714-1F8C116D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1142640"/>
            <a:ext cx="39189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29200" y="1142640"/>
            <a:ext cx="39189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14040" y="4127760"/>
            <a:ext cx="80312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429E0-3727-4D85-8C34-702050B6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1142640"/>
            <a:ext cx="80312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914040" y="4127760"/>
            <a:ext cx="80312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0B0D0-6313-4B8E-BE63-5E7CB191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1142640"/>
            <a:ext cx="39189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29200" y="1142640"/>
            <a:ext cx="39189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14040" y="4127760"/>
            <a:ext cx="39189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29200" y="4127760"/>
            <a:ext cx="39189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DB4AF-56F9-453B-8129-1EA61EFAD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1142640"/>
            <a:ext cx="2585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629520" y="1142640"/>
            <a:ext cx="2585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345000" y="1142640"/>
            <a:ext cx="2585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914040" y="4127760"/>
            <a:ext cx="2585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629520" y="4127760"/>
            <a:ext cx="2585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345000" y="4127760"/>
            <a:ext cx="2585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687A8-43AE-41A5-BA6C-533A22FD1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142640"/>
            <a:ext cx="80312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6419-426D-4128-AE13-824EF0B90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1142640"/>
            <a:ext cx="39189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29200" y="1142640"/>
            <a:ext cx="39189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2CC1-AA28-47B0-8E00-DFB416AE0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C410-2C2B-4ABB-A4F9-486EDF6C6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5663-DAFE-494A-BC13-B26BA6F22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1142640"/>
            <a:ext cx="39189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29200" y="1142640"/>
            <a:ext cx="39189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14040" y="4127760"/>
            <a:ext cx="39189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10BE-45FC-42CD-A41D-26841257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1142640"/>
            <a:ext cx="39189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29200" y="1142640"/>
            <a:ext cx="39189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29200" y="4127760"/>
            <a:ext cx="39189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4B79-6367-4284-8F90-3ED41777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040" y="1142640"/>
            <a:ext cx="39189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29200" y="1142640"/>
            <a:ext cx="39189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914040" y="4127760"/>
            <a:ext cx="80312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1182-9088-42C7-BE1B-05EC2371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914040" y="1142640"/>
            <a:ext cx="80312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4EA7E-8FCB-474D-AC15-E209E26E64C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93B55-48EA-40DF-B23B-C06C0215E36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Arbres binaires de recherch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obert Rac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5187B-7E03-4560-AD12-48AB501EECC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rcRect l="17188" t="13540" r="18749" b="6251"/>
          <a:stretch/>
        </p:blipFill>
        <p:spPr>
          <a:xfrm>
            <a:off x="1676520" y="838080"/>
            <a:ext cx="6248160" cy="58676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353240" y="-34920"/>
            <a:ext cx="320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n ajoute : e i a t d g q 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A7EB-C226-4412-BE5D-58B098B51F1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2819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3366"/>
                </a:solidFill>
                <a:latin typeface="Times New Roman"/>
              </a:rPr>
              <a:t>Ajout en</a:t>
            </a:r>
            <a:br>
              <a:rPr sz="4000"/>
            </a:br>
            <a:r>
              <a:rPr b="0" lang="fr-FR" sz="4000" spc="-1" strike="noStrike">
                <a:solidFill>
                  <a:srgbClr val="003366"/>
                </a:solidFill>
                <a:latin typeface="Times New Roman"/>
              </a:rPr>
              <a:t> racin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rcRect l="7590" t="21337" r="16505" b="7998"/>
          <a:stretch/>
        </p:blipFill>
        <p:spPr>
          <a:xfrm>
            <a:off x="3048120" y="0"/>
            <a:ext cx="5257800" cy="35053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rcRect l="56765" t="14584" r="15626" b="35419"/>
          <a:stretch/>
        </p:blipFill>
        <p:spPr>
          <a:xfrm>
            <a:off x="5791320" y="3587760"/>
            <a:ext cx="2406600" cy="3270240"/>
          </a:xfrm>
          <a:prstGeom prst="rect">
            <a:avLst/>
          </a:prstGeom>
          <a:ln w="0">
            <a:noFill/>
          </a:ln>
        </p:spPr>
      </p:pic>
      <p:grpSp>
        <p:nvGrpSpPr>
          <p:cNvPr id="176" name=""/>
          <p:cNvGrpSpPr/>
          <p:nvPr/>
        </p:nvGrpSpPr>
        <p:grpSpPr>
          <a:xfrm>
            <a:off x="3200400" y="3124080"/>
            <a:ext cx="1905120" cy="3270240"/>
            <a:chOff x="3200400" y="3124080"/>
            <a:chExt cx="1905120" cy="3270240"/>
          </a:xfrm>
        </p:grpSpPr>
        <p:pic>
          <p:nvPicPr>
            <p:cNvPr id="177" name="" descr=""/>
            <p:cNvPicPr/>
            <p:nvPr/>
          </p:nvPicPr>
          <p:blipFill>
            <a:blip r:embed="rId3"/>
            <a:srcRect l="37894" t="14584" r="42191" b="35419"/>
            <a:stretch/>
          </p:blipFill>
          <p:spPr>
            <a:xfrm>
              <a:off x="3200400" y="3124080"/>
              <a:ext cx="1738440" cy="327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4724280" y="5791320"/>
              <a:ext cx="381240" cy="53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1295280" y="3809880"/>
            <a:ext cx="2210040" cy="2743200"/>
            <a:chOff x="1295280" y="3809880"/>
            <a:chExt cx="2210040" cy="2743200"/>
          </a:xfrm>
        </p:grpSpPr>
        <p:pic>
          <p:nvPicPr>
            <p:cNvPr id="180" name="" descr=""/>
            <p:cNvPicPr/>
            <p:nvPr/>
          </p:nvPicPr>
          <p:blipFill>
            <a:blip r:embed="rId4"/>
            <a:srcRect l="17970" t="14584" r="61062" b="43476"/>
            <a:stretch/>
          </p:blipFill>
          <p:spPr>
            <a:xfrm>
              <a:off x="1295280" y="3809880"/>
              <a:ext cx="182880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3124080" y="4038480"/>
              <a:ext cx="38124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E3E3-8164-4981-B63D-C323F3E61B1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Ajout en racine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040" y="1142640"/>
            <a:ext cx="80312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rcRect l="8594" t="12502" r="7811" b="7294"/>
          <a:stretch/>
        </p:blipFill>
        <p:spPr>
          <a:xfrm>
            <a:off x="990720" y="990720"/>
            <a:ext cx="8153280" cy="586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157F-BB79-4AF4-B7BE-7D4D3CC157A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rcRect l="7811" t="27086" r="6250" b="9376"/>
          <a:stretch/>
        </p:blipFill>
        <p:spPr>
          <a:xfrm>
            <a:off x="914400" y="914400"/>
            <a:ext cx="8229600" cy="4648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F952-8781-49BE-9353-B61C1AB599A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rcRect l="8594" t="13540" r="8594" b="6251"/>
          <a:stretch/>
        </p:blipFill>
        <p:spPr>
          <a:xfrm>
            <a:off x="762120" y="533520"/>
            <a:ext cx="8076960" cy="5867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B358-EC09-45D6-806A-1B35E526B02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Suppression d’un élément (racine d ’un ss arbre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040" y="1142640"/>
            <a:ext cx="80312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xemples:    soit l ’arbre 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470200" y="1793880"/>
            <a:ext cx="224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n supprime m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29320" y="4842000"/>
            <a:ext cx="6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066680" y="1828800"/>
            <a:ext cx="3658680" cy="2745720"/>
            <a:chOff x="1066680" y="1828800"/>
            <a:chExt cx="3658680" cy="2745720"/>
          </a:xfrm>
        </p:grpSpPr>
        <p:grpSp>
          <p:nvGrpSpPr>
            <p:cNvPr id="192" name=""/>
            <p:cNvGrpSpPr/>
            <p:nvPr/>
          </p:nvGrpSpPr>
          <p:grpSpPr>
            <a:xfrm>
              <a:off x="1066680" y="1828800"/>
              <a:ext cx="3658680" cy="2745720"/>
              <a:chOff x="1066680" y="1828800"/>
              <a:chExt cx="3658680" cy="2745720"/>
            </a:xfrm>
          </p:grpSpPr>
          <p:sp>
            <p:nvSpPr>
              <p:cNvPr id="193" name=""/>
              <p:cNvSpPr/>
              <p:nvPr/>
            </p:nvSpPr>
            <p:spPr>
              <a:xfrm>
                <a:off x="3032640" y="182880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118600" y="259056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127880" y="335268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347560" y="41148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108600" y="312408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404240" y="251460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047760" y="1863720"/>
                <a:ext cx="38196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057040" y="2701800"/>
                <a:ext cx="38232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066680" y="3463920"/>
                <a:ext cx="38232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047760" y="3159000"/>
                <a:ext cx="38196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361960" y="4149720"/>
                <a:ext cx="38196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343040" y="2549520"/>
                <a:ext cx="38232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>
                <a:off x="2361600" y="2168280"/>
                <a:ext cx="761400" cy="533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1447560" y="3006720"/>
                <a:ext cx="685440" cy="533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371240" y="3768480"/>
                <a:ext cx="990360" cy="609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428640" y="2168280"/>
                <a:ext cx="91404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 flipV="1">
                <a:off x="2437560" y="3006360"/>
                <a:ext cx="60948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3962160" y="3276720"/>
              <a:ext cx="3826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024080" y="31654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4266720" y="2895840"/>
              <a:ext cx="22860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029200" y="2362320"/>
            <a:ext cx="3659040" cy="2745720"/>
            <a:chOff x="5029200" y="2362320"/>
            <a:chExt cx="3659040" cy="2745720"/>
          </a:xfrm>
        </p:grpSpPr>
        <p:grpSp>
          <p:nvGrpSpPr>
            <p:cNvPr id="214" name=""/>
            <p:cNvGrpSpPr/>
            <p:nvPr/>
          </p:nvGrpSpPr>
          <p:grpSpPr>
            <a:xfrm>
              <a:off x="5029200" y="2362320"/>
              <a:ext cx="3659040" cy="2745720"/>
              <a:chOff x="5029200" y="2362320"/>
              <a:chExt cx="3659040" cy="2745720"/>
            </a:xfrm>
          </p:grpSpPr>
          <p:sp>
            <p:nvSpPr>
              <p:cNvPr id="215" name=""/>
              <p:cNvSpPr/>
              <p:nvPr/>
            </p:nvSpPr>
            <p:spPr>
              <a:xfrm>
                <a:off x="6995520" y="236232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081120" y="312444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090760" y="388620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310440" y="4648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367120" y="304812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010280" y="2397240"/>
                <a:ext cx="38268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019560" y="3235320"/>
                <a:ext cx="382680" cy="381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029200" y="3997440"/>
                <a:ext cx="38232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324480" y="4683240"/>
                <a:ext cx="38268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305560" y="3083040"/>
                <a:ext cx="38268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6324120" y="2702160"/>
                <a:ext cx="762120" cy="533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>
                <a:off x="5409720" y="3540240"/>
                <a:ext cx="685800" cy="533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333760" y="4302360"/>
                <a:ext cx="990720" cy="609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391160" y="2702160"/>
                <a:ext cx="91440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7848720" y="3809880"/>
              <a:ext cx="38232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926120" y="37339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8152920" y="3429000"/>
              <a:ext cx="22860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1905120" y="4114800"/>
            <a:ext cx="3278160" cy="2745720"/>
            <a:chOff x="1905120" y="4114800"/>
            <a:chExt cx="3278160" cy="2745720"/>
          </a:xfrm>
        </p:grpSpPr>
        <p:sp>
          <p:nvSpPr>
            <p:cNvPr id="233" name=""/>
            <p:cNvSpPr/>
            <p:nvPr/>
          </p:nvSpPr>
          <p:spPr>
            <a:xfrm>
              <a:off x="3871800" y="4114800"/>
              <a:ext cx="35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957400" y="48769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966680" y="56386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86360" y="6400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947760" y="541008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886200" y="4149720"/>
              <a:ext cx="3826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895840" y="4987800"/>
              <a:ext cx="38232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905120" y="5749920"/>
              <a:ext cx="3826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886200" y="5445000"/>
              <a:ext cx="3826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200400" y="6435720"/>
              <a:ext cx="3826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3200040" y="4454640"/>
              <a:ext cx="762120" cy="53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2285640" y="5292720"/>
              <a:ext cx="68580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210040" y="6054840"/>
              <a:ext cx="99036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 flipV="1">
              <a:off x="3276360" y="5292360"/>
              <a:ext cx="60948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800600" y="4876920"/>
              <a:ext cx="3826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785840" y="4842000"/>
              <a:ext cx="34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 flipV="1">
              <a:off x="4267080" y="4419360"/>
              <a:ext cx="609480" cy="53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ADF1-47CB-4F5E-B151-49444940BF6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rcRect l="8594" t="19791" r="21093" b="41670"/>
          <a:stretch/>
        </p:blipFill>
        <p:spPr>
          <a:xfrm>
            <a:off x="1371600" y="838080"/>
            <a:ext cx="6858000" cy="281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48B8-F06D-4FFD-BAFE-70D9D69D9DC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rcRect l="13290" t="13535" r="14065" b="6251"/>
          <a:stretch/>
        </p:blipFill>
        <p:spPr>
          <a:xfrm>
            <a:off x="990720" y="0"/>
            <a:ext cx="8153280" cy="67500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2209680" y="3200400"/>
            <a:ext cx="22860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59A1-1BB8-4275-BD81-C8B4539CF87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Supprimer (x,A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8031240" cy="495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i A &lt;&gt;ni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lors  Si x&lt;A^.val  alors supprimer(x,A^.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inon Si x&gt;A^.val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alors supprimer(x,A^.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in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i A^.g=nil alors A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A^.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inon si A^.D=nil  alors A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A^.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inon  supmax(max,A^.G)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      A^.val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m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si …….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371600" y="762120"/>
            <a:ext cx="703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onné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valeur à supprimer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rbr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/R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rbre où on supp.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ocal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axi de l ’ ar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F808-201A-4CDA-B050-4E69686B454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Supmax(z,A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8031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i A^. D = ni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lors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0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A^.val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A^.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inon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upmax( z, A^.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fsi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914040" y="990720"/>
            <a:ext cx="762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ésulta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ax de A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rbr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/R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rbre où on sup le 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8206-3B4D-431A-9943-00D1D90499C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173240" y="22860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n arbre binaire est dit de recherche ssi pour tout sous arbre de l’arbre, les nœuds du ss arbre gauche sont tous &lt;= à la racine et ceux du ss arbre droit 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9376" t="16666" r="11721" b="31250"/>
          <a:stretch/>
        </p:blipFill>
        <p:spPr>
          <a:xfrm>
            <a:off x="990720" y="2438280"/>
            <a:ext cx="8001000" cy="396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AEAB-2391-477C-9AE6-839F886333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914040" y="228240"/>
            <a:ext cx="803124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Quel parcours de l ’arbre donne une suite croissante d ’étiquet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xiste-t ’il un arbre unique associé à une suite croissante de valeu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ntérêt des ABR:  Recherche plus rap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echerche d un élément dans un AB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7811" t="30211" r="10155" b="38544"/>
          <a:stretch/>
        </p:blipFill>
        <p:spPr>
          <a:xfrm>
            <a:off x="0" y="3733920"/>
            <a:ext cx="9144000" cy="261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BFA7-971F-427D-8F87-107EE9FF3B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Algorithme de recherche dans AB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Nom : recher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onnées : A: ABR  X : e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ésultats : Ok : Boolé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i A vide alors Ok &lt;- F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inon  Si  racine(A) porte 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lors Ok &lt;- Vr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inon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k &lt;- recherche(G(A),X)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                      ou recherche (D(A),X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54A9-6C13-4485-AC4C-9F66599F5C3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Ajout d un élément dans un ARB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040" y="1142640"/>
            <a:ext cx="80312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xe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15626" t="19791" r="52346" b="53128"/>
          <a:stretch/>
        </p:blipFill>
        <p:spPr>
          <a:xfrm>
            <a:off x="1371600" y="1752480"/>
            <a:ext cx="3124080" cy="1981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rcRect l="46875" t="19791" r="21093" b="53128"/>
          <a:stretch/>
        </p:blipFill>
        <p:spPr>
          <a:xfrm>
            <a:off x="4114800" y="4038480"/>
            <a:ext cx="3124080" cy="19814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243040" y="2251080"/>
            <a:ext cx="81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+ g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14760" y="4842000"/>
            <a:ext cx="10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on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F630-8FEB-4A17-AFC6-FB1B7A7EF1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Mais aussi …..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15626" t="19791" r="52346" b="53128"/>
          <a:stretch/>
        </p:blipFill>
        <p:spPr>
          <a:xfrm>
            <a:off x="914400" y="1454040"/>
            <a:ext cx="3886200" cy="24638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242320" y="2251080"/>
            <a:ext cx="8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+ m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14760" y="4842000"/>
            <a:ext cx="10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on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724280" y="3470400"/>
            <a:ext cx="3659400" cy="2745720"/>
            <a:chOff x="4724280" y="3470400"/>
            <a:chExt cx="3659400" cy="2745720"/>
          </a:xfrm>
        </p:grpSpPr>
        <p:sp>
          <p:nvSpPr>
            <p:cNvPr id="147" name=""/>
            <p:cNvSpPr/>
            <p:nvPr/>
          </p:nvSpPr>
          <p:spPr>
            <a:xfrm>
              <a:off x="6690960" y="34704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776560" y="42321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785840" y="4994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005520" y="5756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766920" y="476568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062560" y="415620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05720" y="3505320"/>
              <a:ext cx="38232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715000" y="4343400"/>
              <a:ext cx="3826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724280" y="5105520"/>
              <a:ext cx="3826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705720" y="4800600"/>
              <a:ext cx="38232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019920" y="5791320"/>
              <a:ext cx="38232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001000" y="4191120"/>
              <a:ext cx="3826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6019920" y="3809880"/>
              <a:ext cx="76176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5105160" y="4648320"/>
              <a:ext cx="685800" cy="53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29200" y="5410080"/>
              <a:ext cx="990720" cy="60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86600" y="3809880"/>
              <a:ext cx="91440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 flipV="1">
              <a:off x="6095880" y="4647960"/>
              <a:ext cx="60984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1EB9-A707-47B0-A354-C9A33BCE72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Ajout feuil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8539" t="29335" r="10813" b="38667"/>
          <a:stretch/>
        </p:blipFill>
        <p:spPr>
          <a:xfrm>
            <a:off x="838080" y="990720"/>
            <a:ext cx="8305920" cy="26668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974880" y="3774960"/>
            <a:ext cx="496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Algorithme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Nom    Ajout_Feui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Données :  A : ARB , X :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Résultat     A : ARB  (modifié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Actions : …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6906-A23D-4314-8CD4-73D97721F6F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Procedure Ajout_feuille</a:t>
            </a:r>
            <a:br>
              <a:rPr sz="4400"/>
            </a:b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        ( x:element ; Var A:ARB);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8031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Begin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  if A=nil then begin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       new(A); A^.val:=x;A^.fg:=nil;   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^.fd:=nil  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lse if x &lt; A^.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hen ajout_feuille(x,A^.f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lse ajout_feuille(x,A^.f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nd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F3FC-F62A-4A90-A46B-9C7B65E4E83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Ecriture itérative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040" y="1142640"/>
            <a:ext cx="80312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a récursivité est terminale. Elle peut être remplacée par une itération  (exerci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xemple d ajout feuil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2031-FAC8-42DD-828F-D7D11B74D38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3T06:54:27Z</dcterms:created>
  <dc:creator>Robert Racca</dc:creator>
  <dc:description/>
  <dc:language>en-US</dc:language>
  <cp:lastModifiedBy>Racca</cp:lastModifiedBy>
  <dcterms:modified xsi:type="dcterms:W3CDTF">2006-08-17T22:21:28Z</dcterms:modified>
  <cp:revision>30</cp:revision>
  <dc:subject/>
  <dc:title>Arbres binaires de recherche</dc:title>
</cp:coreProperties>
</file>